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D6B76E-CDF7-4478-AA15-5D42F0CA4DC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57ACF7-4959-4410-A6E0-601F8C7A044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579FCD-0E8E-47B1-B70F-CC4F8F9A839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E88370-0F54-44FC-ADBA-B7D7461607B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5279DE-F824-4B86-8530-1E96281B202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1CC353-4D6C-42A5-BCE2-53C91162856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854618-B734-4C6F-A5E8-3A028F4FFCC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8C82C6-5195-483D-9BF7-FBFBA0BD474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3B42BE-393B-41D5-9BA4-CE5AA26DA4E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303F66-0ED9-4608-AA56-2C7132C0080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E43E7E-71DE-444B-AE61-5A33A1D2782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76B238-88E2-4441-86F4-30D5FE1533B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image" Target="../media/image1.png"/><Relationship Id="rId15" Type="http://schemas.openxmlformats.org/officeDocument/2006/relationships/image" Target="../media/image1.png"/><Relationship Id="rId16" Type="http://schemas.openxmlformats.org/officeDocument/2006/relationships/image" Target="../media/image1.png"/><Relationship Id="rId17" Type="http://schemas.openxmlformats.org/officeDocument/2006/relationships/image" Target="../media/image1.png"/><Relationship Id="rId18" Type="http://schemas.openxmlformats.org/officeDocument/2006/relationships/image" Target="../media/image1.png"/><Relationship Id="rId19" Type="http://schemas.openxmlformats.org/officeDocument/2006/relationships/image" Target="../media/image1.png"/><Relationship Id="rId20" Type="http://schemas.openxmlformats.org/officeDocument/2006/relationships/image" Target="../media/image1.png"/><Relationship Id="rId21" Type="http://schemas.openxmlformats.org/officeDocument/2006/relationships/image" Target="../media/image1.png"/><Relationship Id="rId22" Type="http://schemas.openxmlformats.org/officeDocument/2006/relationships/image" Target="../media/image1.png"/><Relationship Id="rId23" Type="http://schemas.openxmlformats.org/officeDocument/2006/relationships/image" Target="../media/image1.png"/><Relationship Id="rId24" Type="http://schemas.openxmlformats.org/officeDocument/2006/relationships/image" Target="../media/image1.png"/><Relationship Id="rId25" Type="http://schemas.openxmlformats.org/officeDocument/2006/relationships/image" Target="../media/image1.png"/><Relationship Id="rId26" Type="http://schemas.openxmlformats.org/officeDocument/2006/relationships/image" Target="../media/image1.png"/><Relationship Id="rId27" Type="http://schemas.openxmlformats.org/officeDocument/2006/relationships/image" Target="../media/image1.png"/><Relationship Id="rId28" Type="http://schemas.openxmlformats.org/officeDocument/2006/relationships/image" Target="../media/image1.png"/><Relationship Id="rId29" Type="http://schemas.openxmlformats.org/officeDocument/2006/relationships/image" Target="../media/image1.png"/><Relationship Id="rId30" Type="http://schemas.openxmlformats.org/officeDocument/2006/relationships/image" Target="../media/image1.png"/><Relationship Id="rId31" Type="http://schemas.openxmlformats.org/officeDocument/2006/relationships/image" Target="../media/image1.png"/><Relationship Id="rId32" Type="http://schemas.openxmlformats.org/officeDocument/2006/relationships/image" Target="../media/image1.png"/><Relationship Id="rId33" Type="http://schemas.openxmlformats.org/officeDocument/2006/relationships/image" Target="../media/image1.png"/><Relationship Id="rId34" Type="http://schemas.openxmlformats.org/officeDocument/2006/relationships/image" Target="../media/image1.png"/><Relationship Id="rId35" Type="http://schemas.openxmlformats.org/officeDocument/2006/relationships/image" Target="../media/image1.png"/><Relationship Id="rId36" Type="http://schemas.openxmlformats.org/officeDocument/2006/relationships/image" Target="../media/image1.png"/><Relationship Id="rId37" Type="http://schemas.openxmlformats.org/officeDocument/2006/relationships/image" Target="../media/image1.png"/><Relationship Id="rId38" Type="http://schemas.openxmlformats.org/officeDocument/2006/relationships/image" Target="../media/image1.png"/><Relationship Id="rId39" Type="http://schemas.openxmlformats.org/officeDocument/2006/relationships/image" Target="../media/image1.png"/><Relationship Id="rId40" Type="http://schemas.openxmlformats.org/officeDocument/2006/relationships/image" Target="../media/image1.png"/><Relationship Id="rId41" Type="http://schemas.openxmlformats.org/officeDocument/2006/relationships/image" Target="../media/image1.png"/><Relationship Id="rId42" Type="http://schemas.openxmlformats.org/officeDocument/2006/relationships/image" Target="../media/image1.png"/><Relationship Id="rId43" Type="http://schemas.openxmlformats.org/officeDocument/2006/relationships/image" Target="../media/image1.png"/><Relationship Id="rId44" Type="http://schemas.openxmlformats.org/officeDocument/2006/relationships/image" Target="../media/image1.png"/><Relationship Id="rId45" Type="http://schemas.openxmlformats.org/officeDocument/2006/relationships/image" Target="../media/image1.png"/><Relationship Id="rId46" Type="http://schemas.openxmlformats.org/officeDocument/2006/relationships/image" Target="../media/image1.png"/><Relationship Id="rId47" Type="http://schemas.openxmlformats.org/officeDocument/2006/relationships/image" Target="../media/image1.png"/><Relationship Id="rId48" Type="http://schemas.openxmlformats.org/officeDocument/2006/relationships/image" Target="../media/image1.png"/><Relationship Id="rId49" Type="http://schemas.openxmlformats.org/officeDocument/2006/relationships/image" Target="../media/image1.png"/><Relationship Id="rId50" Type="http://schemas.openxmlformats.org/officeDocument/2006/relationships/image" Target="../media/image1.png"/><Relationship Id="rId51" Type="http://schemas.openxmlformats.org/officeDocument/2006/relationships/image" Target="../media/image1.png"/><Relationship Id="rId52" Type="http://schemas.openxmlformats.org/officeDocument/2006/relationships/image" Target="../media/image1.png"/><Relationship Id="rId53" Type="http://schemas.openxmlformats.org/officeDocument/2006/relationships/image" Target="../media/image1.png"/><Relationship Id="rId54" Type="http://schemas.openxmlformats.org/officeDocument/2006/relationships/image" Target="../media/image1.png"/><Relationship Id="rId55" Type="http://schemas.openxmlformats.org/officeDocument/2006/relationships/image" Target="../media/image1.png"/><Relationship Id="rId56" Type="http://schemas.openxmlformats.org/officeDocument/2006/relationships/image" Target="../media/image1.png"/><Relationship Id="rId57" Type="http://schemas.openxmlformats.org/officeDocument/2006/relationships/image" Target="../media/image1.png"/><Relationship Id="rId58" Type="http://schemas.openxmlformats.org/officeDocument/2006/relationships/image" Target="../media/image1.png"/><Relationship Id="rId59" Type="http://schemas.openxmlformats.org/officeDocument/2006/relationships/image" Target="../media/image1.png"/><Relationship Id="rId60" Type="http://schemas.openxmlformats.org/officeDocument/2006/relationships/image" Target="../media/image1.png"/><Relationship Id="rId61" Type="http://schemas.openxmlformats.org/officeDocument/2006/relationships/image" Target="../media/image1.png"/><Relationship Id="rId62" Type="http://schemas.openxmlformats.org/officeDocument/2006/relationships/slideLayout" Target="../slideLayouts/slideLayout13.xml"/><Relationship Id="rId63" Type="http://schemas.openxmlformats.org/officeDocument/2006/relationships/slideLayout" Target="../slideLayouts/slideLayout14.xml"/><Relationship Id="rId64" Type="http://schemas.openxmlformats.org/officeDocument/2006/relationships/slideLayout" Target="../slideLayouts/slideLayout15.xml"/><Relationship Id="rId65" Type="http://schemas.openxmlformats.org/officeDocument/2006/relationships/slideLayout" Target="../slideLayouts/slideLayout16.xml"/><Relationship Id="rId66" Type="http://schemas.openxmlformats.org/officeDocument/2006/relationships/slideLayout" Target="../slideLayouts/slideLayout17.xml"/><Relationship Id="rId67" Type="http://schemas.openxmlformats.org/officeDocument/2006/relationships/slideLayout" Target="../slideLayouts/slideLayout18.xml"/><Relationship Id="rId68" Type="http://schemas.openxmlformats.org/officeDocument/2006/relationships/slideLayout" Target="../slideLayouts/slideLayout19.xml"/><Relationship Id="rId69" Type="http://schemas.openxmlformats.org/officeDocument/2006/relationships/slideLayout" Target="../slideLayouts/slideLayout20.xml"/><Relationship Id="rId70" Type="http://schemas.openxmlformats.org/officeDocument/2006/relationships/slideLayout" Target="../slideLayouts/slideLayout21.xml"/><Relationship Id="rId71" Type="http://schemas.openxmlformats.org/officeDocument/2006/relationships/slideLayout" Target="../slideLayouts/slideLayout22.xml"/><Relationship Id="rId72" Type="http://schemas.openxmlformats.org/officeDocument/2006/relationships/slideLayout" Target="../slideLayouts/slideLayout23.xml"/><Relationship Id="rId7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2120" y="0"/>
            <a:ext cx="83818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1716120"/>
            <a:ext cx="6950160" cy="7452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"/>
          <p:cNvSpPr/>
          <p:nvPr/>
        </p:nvSpPr>
        <p:spPr>
          <a:xfrm>
            <a:off x="4419720" y="6369480"/>
            <a:ext cx="12952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22FC8-713A-4409-9EE5-799C971EE006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-3240" y="-9360"/>
            <a:ext cx="9068040" cy="6867360"/>
            <a:chOff x="-3240" y="-9360"/>
            <a:chExt cx="9068040" cy="6867360"/>
          </a:xfrm>
        </p:grpSpPr>
        <p:sp>
          <p:nvSpPr>
            <p:cNvPr id="42" name=""/>
            <p:cNvSpPr/>
            <p:nvPr/>
          </p:nvSpPr>
          <p:spPr>
            <a:xfrm>
              <a:off x="-3240" y="-9360"/>
              <a:ext cx="76320" cy="68580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49400" y="0"/>
              <a:ext cx="75960" cy="68580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01680" y="0"/>
              <a:ext cx="76320" cy="685800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53960" y="0"/>
              <a:ext cx="76320" cy="685800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06600" y="0"/>
              <a:ext cx="75960" cy="685800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58880" y="0"/>
              <a:ext cx="76320" cy="685800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911160" y="0"/>
              <a:ext cx="76320" cy="6858000"/>
            </a:xfrm>
            <a:prstGeom prst="rect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063800" y="0"/>
              <a:ext cx="75960" cy="6858000"/>
            </a:xfrm>
            <a:prstGeom prst="rect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216080" y="0"/>
              <a:ext cx="76320" cy="6858000"/>
            </a:xfrm>
            <a:prstGeom prst="rect">
              <a:avLst/>
            </a:prstGeom>
            <a:blipFill rotWithShape="0">
              <a:blip r:embed="rId1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368360" y="0"/>
              <a:ext cx="76320" cy="6858000"/>
            </a:xfrm>
            <a:prstGeom prst="rect">
              <a:avLst/>
            </a:prstGeom>
            <a:blipFill rotWithShape="0">
              <a:blip r:embed="rId1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521000" y="0"/>
              <a:ext cx="75960" cy="6858000"/>
            </a:xfrm>
            <a:prstGeom prst="rect">
              <a:avLst/>
            </a:prstGeom>
            <a:blipFill rotWithShape="0">
              <a:blip r:embed="rId1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673280" y="0"/>
              <a:ext cx="76320" cy="6858000"/>
            </a:xfrm>
            <a:prstGeom prst="rect">
              <a:avLst/>
            </a:prstGeom>
            <a:blipFill rotWithShape="0">
              <a:blip r:embed="rId1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825560" y="0"/>
              <a:ext cx="76320" cy="6858000"/>
            </a:xfrm>
            <a:prstGeom prst="rect">
              <a:avLst/>
            </a:prstGeom>
            <a:blipFill rotWithShape="0">
              <a:blip r:embed="rId1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78200" y="0"/>
              <a:ext cx="75960" cy="6858000"/>
            </a:xfrm>
            <a:prstGeom prst="rect">
              <a:avLst/>
            </a:prstGeom>
            <a:blipFill rotWithShape="0">
              <a:blip r:embed="rId1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130480" y="0"/>
              <a:ext cx="76320" cy="6858000"/>
            </a:xfrm>
            <a:prstGeom prst="rect">
              <a:avLst/>
            </a:prstGeom>
            <a:blipFill rotWithShape="0">
              <a:blip r:embed="rId1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282760" y="0"/>
              <a:ext cx="76320" cy="6858000"/>
            </a:xfrm>
            <a:prstGeom prst="rect">
              <a:avLst/>
            </a:prstGeom>
            <a:blipFill rotWithShape="0">
              <a:blip r:embed="rId1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435400" y="0"/>
              <a:ext cx="75960" cy="6858000"/>
            </a:xfrm>
            <a:prstGeom prst="rect">
              <a:avLst/>
            </a:prstGeom>
            <a:blipFill rotWithShape="0">
              <a:blip r:embed="rId1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587680" y="0"/>
              <a:ext cx="76320" cy="6858000"/>
            </a:xfrm>
            <a:prstGeom prst="rect">
              <a:avLst/>
            </a:prstGeom>
            <a:blipFill rotWithShape="0">
              <a:blip r:embed="rId1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739960" y="0"/>
              <a:ext cx="76320" cy="6858000"/>
            </a:xfrm>
            <a:prstGeom prst="rect">
              <a:avLst/>
            </a:prstGeom>
            <a:blipFill rotWithShape="0">
              <a:blip r:embed="rId2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2600" y="0"/>
              <a:ext cx="75960" cy="6858000"/>
            </a:xfrm>
            <a:prstGeom prst="rect">
              <a:avLst/>
            </a:prstGeom>
            <a:blipFill rotWithShape="0">
              <a:blip r:embed="rId2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044880" y="0"/>
              <a:ext cx="76320" cy="6858000"/>
            </a:xfrm>
            <a:prstGeom prst="rect">
              <a:avLst/>
            </a:prstGeom>
            <a:blipFill rotWithShape="0">
              <a:blip r:embed="rId2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197160" y="0"/>
              <a:ext cx="76320" cy="6858000"/>
            </a:xfrm>
            <a:prstGeom prst="rect">
              <a:avLst/>
            </a:prstGeom>
            <a:blipFill rotWithShape="0">
              <a:blip r:embed="rId2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349800" y="0"/>
              <a:ext cx="75960" cy="6858000"/>
            </a:xfrm>
            <a:prstGeom prst="rect">
              <a:avLst/>
            </a:prstGeom>
            <a:blipFill rotWithShape="0">
              <a:blip r:embed="rId2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02080" y="0"/>
              <a:ext cx="76320" cy="6858000"/>
            </a:xfrm>
            <a:prstGeom prst="rect">
              <a:avLst/>
            </a:prstGeom>
            <a:blipFill rotWithShape="0">
              <a:blip r:embed="rId2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54360" y="0"/>
              <a:ext cx="76320" cy="6858000"/>
            </a:xfrm>
            <a:prstGeom prst="rect">
              <a:avLst/>
            </a:prstGeom>
            <a:blipFill rotWithShape="0">
              <a:blip r:embed="rId2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807000" y="0"/>
              <a:ext cx="75960" cy="6858000"/>
            </a:xfrm>
            <a:prstGeom prst="rect">
              <a:avLst/>
            </a:prstGeom>
            <a:blipFill rotWithShape="0">
              <a:blip r:embed="rId2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959280" y="0"/>
              <a:ext cx="76320" cy="6858000"/>
            </a:xfrm>
            <a:prstGeom prst="rect">
              <a:avLst/>
            </a:prstGeom>
            <a:blipFill rotWithShape="0">
              <a:blip r:embed="rId2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111560" y="0"/>
              <a:ext cx="76320" cy="6858000"/>
            </a:xfrm>
            <a:prstGeom prst="rect">
              <a:avLst/>
            </a:pr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264200" y="0"/>
              <a:ext cx="75960" cy="6858000"/>
            </a:xfrm>
            <a:prstGeom prst="rect">
              <a:avLst/>
            </a:pr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416480" y="0"/>
              <a:ext cx="76320" cy="6858000"/>
            </a:xfrm>
            <a:prstGeom prst="rect">
              <a:avLst/>
            </a:prstGeom>
            <a:blipFill rotWithShape="0">
              <a:blip r:embed="rId3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568760" y="0"/>
              <a:ext cx="76320" cy="6858000"/>
            </a:xfrm>
            <a:prstGeom prst="rect">
              <a:avLst/>
            </a:prstGeom>
            <a:blipFill rotWithShape="0">
              <a:blip r:embed="rId3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21400" y="0"/>
              <a:ext cx="75960" cy="6858000"/>
            </a:xfrm>
            <a:prstGeom prst="rect">
              <a:avLst/>
            </a:prstGeom>
            <a:blipFill rotWithShape="0">
              <a:blip r:embed="rId3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873680" y="0"/>
              <a:ext cx="76320" cy="6858000"/>
            </a:xfrm>
            <a:prstGeom prst="rect">
              <a:avLst/>
            </a:prstGeom>
            <a:blipFill rotWithShape="0">
              <a:blip r:embed="rId3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025960" y="0"/>
              <a:ext cx="76320" cy="6858000"/>
            </a:xfrm>
            <a:prstGeom prst="rect">
              <a:avLst/>
            </a:prstGeom>
            <a:blipFill rotWithShape="0">
              <a:blip r:embed="rId3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178600" y="0"/>
              <a:ext cx="75960" cy="6858000"/>
            </a:xfrm>
            <a:prstGeom prst="rect">
              <a:avLst/>
            </a:prstGeom>
            <a:blipFill rotWithShape="0">
              <a:blip r:embed="rId3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330880" y="0"/>
              <a:ext cx="76320" cy="6858000"/>
            </a:xfrm>
            <a:prstGeom prst="rect">
              <a:avLst/>
            </a:prstGeom>
            <a:blipFill rotWithShape="0">
              <a:blip r:embed="rId3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483160" y="0"/>
              <a:ext cx="76320" cy="6858000"/>
            </a:xfrm>
            <a:prstGeom prst="rect">
              <a:avLst/>
            </a:prstGeom>
            <a:blipFill rotWithShape="0">
              <a:blip r:embed="rId3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635800" y="0"/>
              <a:ext cx="75960" cy="6858000"/>
            </a:xfrm>
            <a:prstGeom prst="rect">
              <a:avLst/>
            </a:prstGeom>
            <a:blipFill rotWithShape="0">
              <a:blip r:embed="rId3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5788080" y="0"/>
              <a:ext cx="76320" cy="6858000"/>
            </a:xfrm>
            <a:prstGeom prst="rect">
              <a:avLst/>
            </a:prstGeom>
            <a:blipFill rotWithShape="0">
              <a:blip r:embed="rId4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940360" y="0"/>
              <a:ext cx="76320" cy="6858000"/>
            </a:xfrm>
            <a:prstGeom prst="rect">
              <a:avLst/>
            </a:prstGeom>
            <a:blipFill rotWithShape="0">
              <a:blip r:embed="rId4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093000" y="0"/>
              <a:ext cx="75960" cy="6858000"/>
            </a:xfrm>
            <a:prstGeom prst="rect">
              <a:avLst/>
            </a:prstGeom>
            <a:blipFill rotWithShape="0">
              <a:blip r:embed="rId4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245280" y="0"/>
              <a:ext cx="76320" cy="6858000"/>
            </a:xfrm>
            <a:prstGeom prst="rect">
              <a:avLst/>
            </a:prstGeom>
            <a:blipFill rotWithShape="0">
              <a:blip r:embed="rId4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397560" y="0"/>
              <a:ext cx="76320" cy="6858000"/>
            </a:xfrm>
            <a:prstGeom prst="rect">
              <a:avLst/>
            </a:prstGeom>
            <a:blipFill rotWithShape="0">
              <a:blip r:embed="rId4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550200" y="0"/>
              <a:ext cx="75960" cy="6858000"/>
            </a:xfrm>
            <a:prstGeom prst="rect">
              <a:avLst/>
            </a:prstGeom>
            <a:blipFill rotWithShape="0">
              <a:blip r:embed="rId4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702480" y="0"/>
              <a:ext cx="76320" cy="6858000"/>
            </a:xfrm>
            <a:prstGeom prst="rect">
              <a:avLst/>
            </a:prstGeom>
            <a:blipFill rotWithShape="0">
              <a:blip r:embed="rId4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854760" y="0"/>
              <a:ext cx="76320" cy="6858000"/>
            </a:xfrm>
            <a:prstGeom prst="rect">
              <a:avLst/>
            </a:prstGeom>
            <a:blipFill rotWithShape="0">
              <a:blip r:embed="rId4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007400" y="0"/>
              <a:ext cx="75960" cy="6858000"/>
            </a:xfrm>
            <a:prstGeom prst="rect">
              <a:avLst/>
            </a:prstGeom>
            <a:blipFill rotWithShape="0">
              <a:blip r:embed="rId4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159680" y="0"/>
              <a:ext cx="76320" cy="6858000"/>
            </a:xfrm>
            <a:prstGeom prst="rect">
              <a:avLst/>
            </a:prstGeom>
            <a:blipFill rotWithShape="0">
              <a:blip r:embed="rId4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7311960" y="0"/>
              <a:ext cx="76320" cy="6858000"/>
            </a:xfrm>
            <a:prstGeom prst="rect">
              <a:avLst/>
            </a:prstGeom>
            <a:blipFill rotWithShape="0">
              <a:blip r:embed="rId5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464600" y="0"/>
              <a:ext cx="75960" cy="6858000"/>
            </a:xfrm>
            <a:prstGeom prst="rect">
              <a:avLst/>
            </a:prstGeom>
            <a:blipFill rotWithShape="0">
              <a:blip r:embed="rId5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616880" y="0"/>
              <a:ext cx="76320" cy="6858000"/>
            </a:xfrm>
            <a:prstGeom prst="rect">
              <a:avLst/>
            </a:prstGeom>
            <a:blipFill rotWithShape="0">
              <a:blip r:embed="rId5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69160" y="0"/>
              <a:ext cx="76320" cy="6858000"/>
            </a:xfrm>
            <a:prstGeom prst="rect">
              <a:avLst/>
            </a:prstGeom>
            <a:blipFill rotWithShape="0">
              <a:blip r:embed="rId5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21800" y="0"/>
              <a:ext cx="75960" cy="6858000"/>
            </a:xfrm>
            <a:prstGeom prst="rect">
              <a:avLst/>
            </a:prstGeom>
            <a:blipFill rotWithShape="0">
              <a:blip r:embed="rId5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074080" y="0"/>
              <a:ext cx="76320" cy="6858000"/>
            </a:xfrm>
            <a:prstGeom prst="rect">
              <a:avLst/>
            </a:prstGeom>
            <a:blipFill rotWithShape="0">
              <a:blip r:embed="rId5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226360" y="0"/>
              <a:ext cx="76320" cy="6858000"/>
            </a:xfrm>
            <a:prstGeom prst="rect">
              <a:avLst/>
            </a:prstGeom>
            <a:blipFill rotWithShape="0">
              <a:blip r:embed="rId5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379000" y="0"/>
              <a:ext cx="75960" cy="6858000"/>
            </a:xfrm>
            <a:prstGeom prst="rect">
              <a:avLst/>
            </a:prstGeom>
            <a:blipFill rotWithShape="0">
              <a:blip r:embed="rId5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531280" y="0"/>
              <a:ext cx="76320" cy="6858000"/>
            </a:xfrm>
            <a:prstGeom prst="rect">
              <a:avLst/>
            </a:prstGeom>
            <a:blipFill rotWithShape="0">
              <a:blip r:embed="rId5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683560" y="0"/>
              <a:ext cx="76320" cy="6858000"/>
            </a:xfrm>
            <a:prstGeom prst="rect">
              <a:avLst/>
            </a:prstGeom>
            <a:blipFill rotWithShape="0">
              <a:blip r:embed="rId5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836200" y="0"/>
              <a:ext cx="75960" cy="6858000"/>
            </a:xfrm>
            <a:prstGeom prst="rect">
              <a:avLst/>
            </a:prstGeom>
            <a:blipFill rotWithShape="0">
              <a:blip r:embed="rId6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8988480" y="0"/>
              <a:ext cx="76320" cy="6858000"/>
            </a:xfrm>
            <a:prstGeom prst="rect">
              <a:avLst/>
            </a:prstGeom>
            <a:blipFill rotWithShape="0">
              <a:blip r:embed="rId6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762120" y="0"/>
            <a:ext cx="83818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-9360"/>
            <a:ext cx="9144000" cy="50940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79400" y="109440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ldNum" idx="1"/>
          </p:nvPr>
        </p:nvSpPr>
        <p:spPr>
          <a:xfrm>
            <a:off x="3581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CFDF7-0842-4132-ADB5-BBE43BCFBDB3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2"/>
    <p:sldLayoutId id="2147483663" r:id="rId63"/>
    <p:sldLayoutId id="2147483664" r:id="rId64"/>
    <p:sldLayoutId id="2147483665" r:id="rId65"/>
    <p:sldLayoutId id="2147483666" r:id="rId66"/>
    <p:sldLayoutId id="2147483667" r:id="rId67"/>
    <p:sldLayoutId id="2147483668" r:id="rId68"/>
    <p:sldLayoutId id="2147483669" r:id="rId69"/>
    <p:sldLayoutId id="2147483670" r:id="rId70"/>
    <p:sldLayoutId id="2147483671" r:id="rId71"/>
    <p:sldLayoutId id="2147483672" r:id="rId72"/>
    <p:sldLayoutId id="2147483673" r:id="rId7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61760" y="1492920"/>
            <a:ext cx="78483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Agent Mobilit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533160" y="2895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ification of the Computational Stat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3809880"/>
            <a:ext cx="8534520" cy="32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erner Van Bel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o D’Hond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gramming Technology Lab (PROG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partement Computer Science (DINF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rije Universiteit Brussel (VUB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533520" y="4724280"/>
            <a:ext cx="7543800" cy="60984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Strong Migration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1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. Stop the execution of an ag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11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. Gather its ‘state’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11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3. Remove the agent from mem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11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4. Send its entire ‘state’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11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5. Receive its entire stat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11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6. Create an agent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11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7. Restore its entire stat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11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8. Start running the ag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533520" y="5257800"/>
            <a:ext cx="7543800" cy="6094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Strong Migration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1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. Stop the execution of an ag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11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. Gather its ‘state’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11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3. Remove the agent from mem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11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4. Send its entire ‘state’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11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5. Receive its entire stat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11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6. Create an agent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11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7. Restore its entire stat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11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8. Start running the ag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533520" y="5791320"/>
            <a:ext cx="7543800" cy="6094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Strong Migration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1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. Stop the execution of an ag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11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. Gather its ‘state’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11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3. Remove the agent from mem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11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4. Send its entire ‘state’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11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5. Receive its entire stat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11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6. Create an agent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11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7. Restore its entire stat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11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8. Start running the ag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920160"/>
            <a:ext cx="8163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Verdana"/>
              </a:rPr>
              <a:t>Capturing a Process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on Interpreted Environment</a:t>
            </a:r>
            <a:br>
              <a:rPr sz="32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emcpy of the proces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"/>
          <p:cNvSpPr/>
          <p:nvPr/>
        </p:nvSpPr>
        <p:spPr>
          <a:xfrm>
            <a:off x="731520" y="5180400"/>
            <a:ext cx="7439760" cy="6426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e need an Interpreted Environ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033560" y="3733920"/>
            <a:ext cx="81104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1111"/>
                </a:solidFill>
                <a:latin typeface="Verdana"/>
              </a:rPr>
              <a:t>Heterogeneous architec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033560" y="3124080"/>
            <a:ext cx="81104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1111"/>
                </a:solidFill>
                <a:latin typeface="Verdana"/>
              </a:rPr>
              <a:t>Pointers to the operating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920160"/>
            <a:ext cx="8163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Verdana"/>
              </a:rPr>
              <a:t>Capturing a Process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terpreted Environment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rialization and Deserialization of the program grap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latform Independ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457200" y="4876200"/>
            <a:ext cx="8686800" cy="13737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fixed connections to system dependent resour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face all system resources as agents which cannot migr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85800" y="3962520"/>
            <a:ext cx="84582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1111"/>
                </a:solidFill>
                <a:latin typeface="Verdana"/>
              </a:rPr>
              <a:t>Pointers to system dependent resources: e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1111"/>
                </a:solidFill>
                <a:latin typeface="Verdana"/>
              </a:rPr>
              <a:t>user interface, disc access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1219320" y="4648320"/>
            <a:ext cx="4572000" cy="4572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Strong Migration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7876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blem: capturing the execution state of a 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running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proces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1160" indent="-28116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ate consist of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09120" indent="-23436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a Spa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09120" indent="-23436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de Spa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09120" indent="-23436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untime Stack &amp; IP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09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"/>
          <p:cNvSpPr/>
          <p:nvPr/>
        </p:nvSpPr>
        <p:spPr>
          <a:xfrm>
            <a:off x="1143000" y="4648320"/>
            <a:ext cx="7391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Runtime Stack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"/>
          <p:cNvSpPr/>
          <p:nvPr/>
        </p:nvSpPr>
        <p:spPr>
          <a:xfrm>
            <a:off x="9829800" y="373392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036440" y="2190960"/>
            <a:ext cx="810576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Object evaluate(Object ex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{if (exp instanceof Applicabl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{Object closure=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</a:rPr>
              <a:t>evaluat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exp.application()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ect[] args=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</a:rPr>
              <a:t>evalarg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exp.args(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closure.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</a:rPr>
              <a:t>apply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args);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exp instanceof Identifier) return lookup(exp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exp instanceof Integer) return ex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24160" y="4874760"/>
            <a:ext cx="7113240" cy="10688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valuator uses its own runtime stack t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mulate a stack for the evaluated progr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Runtime Stack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se stack frames are almost impossible to serializ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apturing the instruction pointer is impossib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serializing is difficult because we have to create a new valid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ack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Jumping to the new instruction pointer is impossib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380880" y="4876200"/>
            <a:ext cx="8229600" cy="13737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licit stack need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rite the evaluator in Continuation Passing Sty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ify the stack in the evaluated languag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Explicit Stack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 stack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tinuation stack (what do I need to do in the future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pression stack (the expressions accompanying the continuations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efore calling a continu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stack contains the arguments this continuation nee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Explicit Stack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 stack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tinuation stack (what do I need to do in the future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pression stack (the expressions accompanying the continuations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fter calling a continu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top of the stack contains the result of the continu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The Cborg MMAS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oal is to implement a light weight MMAS for research purpos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ide Area Network: Application = interconnection of Age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e try to achieve as much transparency as possib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ne grained component structure with frequent migration of compone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ew paradigm in writing distributed application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Explicit Stack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in-loop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"/>
          <p:cNvSpPr/>
          <p:nvPr/>
        </p:nvSpPr>
        <p:spPr>
          <a:xfrm>
            <a:off x="1596600" y="2666520"/>
            <a:ext cx="3807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while(1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{CNT:POP_CNT(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CNT.invoke()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Explicit Stack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" y="2362320"/>
            <a:ext cx="1386000" cy="1295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600200" y="2362320"/>
            <a:ext cx="838080" cy="1295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28600" y="3276720"/>
            <a:ext cx="2209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28600" y="2819520"/>
            <a:ext cx="2209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28600" y="319788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alu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79040" y="3197880"/>
            <a:ext cx="75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47560" y="4724280"/>
            <a:ext cx="838440" cy="1295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371600" y="4724280"/>
            <a:ext cx="838080" cy="1295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3520" y="563868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33520" y="518148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450440" y="5560200"/>
            <a:ext cx="75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371600" y="3809880"/>
            <a:ext cx="0" cy="7621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819520" y="2057400"/>
            <a:ext cx="63244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valuate thun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"/>
          <p:cNvSpPr/>
          <p:nvPr/>
        </p:nvSpPr>
        <p:spPr>
          <a:xfrm>
            <a:off x="2896920" y="3045240"/>
            <a:ext cx="581976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oid evaluate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exp=PEEK_EXP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 (exp instanceof Integer) return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 (exp instanceof Identifier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POKE_EXP(lookup(exp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urn;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304920" y="4267080"/>
            <a:ext cx="1371600" cy="4572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Explicit Stack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2" name=""/>
          <p:cNvSpPr/>
          <p:nvPr/>
        </p:nvSpPr>
        <p:spPr>
          <a:xfrm>
            <a:off x="228600" y="1752480"/>
            <a:ext cx="1386000" cy="1295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600200" y="1752480"/>
            <a:ext cx="838080" cy="1295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28600" y="2666880"/>
            <a:ext cx="2209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28600" y="2209680"/>
            <a:ext cx="2209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258840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alu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79040" y="2588400"/>
            <a:ext cx="75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371600" y="3200400"/>
            <a:ext cx="0" cy="7621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2819520" y="2057400"/>
            <a:ext cx="63244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valuate thun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"/>
          <p:cNvSpPr/>
          <p:nvPr/>
        </p:nvSpPr>
        <p:spPr>
          <a:xfrm>
            <a:off x="3506760" y="2495160"/>
            <a:ext cx="520992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oid evaluate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.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 (exp instanceof Applicable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Object [] args=exp.args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Object apl=exp.application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OKE_EXP(apl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SH_CNT(apply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SH_CNT(evaluate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SH_EXP(args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SH_CNT(swap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SH_CNT(evalargs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04920" y="4724280"/>
            <a:ext cx="1385640" cy="1295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76520" y="4724280"/>
            <a:ext cx="990360" cy="1295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04920" y="5638680"/>
            <a:ext cx="2209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04920" y="5181480"/>
            <a:ext cx="2209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04920" y="5560200"/>
            <a:ext cx="142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04920" y="5178960"/>
            <a:ext cx="142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alu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04920" y="4264560"/>
            <a:ext cx="142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alar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679040" y="5560200"/>
            <a:ext cx="90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629360" y="5178960"/>
            <a:ext cx="95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[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676520" y="4267080"/>
            <a:ext cx="990360" cy="4572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6720" y="4721760"/>
            <a:ext cx="80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5867280" y="2590920"/>
            <a:ext cx="3048120" cy="5331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Stack Trace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912600" y="1905120"/>
            <a:ext cx="81104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"/>
          <p:cNvSpPr/>
          <p:nvPr/>
        </p:nvSpPr>
        <p:spPr>
          <a:xfrm>
            <a:off x="7390800" y="182700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gr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866560" y="2664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isplay(200+30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9829800" y="373392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011960" y="4950360"/>
            <a:ext cx="1198800" cy="459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alu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370960" y="4950360"/>
            <a:ext cx="2354040" cy="459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play(200+30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5867280" y="2590920"/>
            <a:ext cx="3048120" cy="5331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Stack Trace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2600" y="1905120"/>
            <a:ext cx="81104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"/>
          <p:cNvSpPr/>
          <p:nvPr/>
        </p:nvSpPr>
        <p:spPr>
          <a:xfrm>
            <a:off x="7390800" y="182700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gr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866560" y="2664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isplay(200+30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9829800" y="373392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013400" y="4950360"/>
            <a:ext cx="858960" cy="459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372040" y="4950360"/>
            <a:ext cx="1063080" cy="459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pl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002600" y="4340880"/>
            <a:ext cx="1198800" cy="459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alu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363040" y="4340880"/>
            <a:ext cx="1471680" cy="459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200+30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013040" y="3731400"/>
            <a:ext cx="807120" cy="459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011240" y="3121560"/>
            <a:ext cx="1198800" cy="459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alar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7391520" y="2590920"/>
            <a:ext cx="1371600" cy="5331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Stack Trace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912600" y="1905120"/>
            <a:ext cx="81104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"/>
          <p:cNvSpPr/>
          <p:nvPr/>
        </p:nvSpPr>
        <p:spPr>
          <a:xfrm>
            <a:off x="7390800" y="182700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gr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866560" y="2664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isplay(200+30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9829800" y="373392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013400" y="4950360"/>
            <a:ext cx="858960" cy="459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372040" y="4950360"/>
            <a:ext cx="1063080" cy="459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pl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002600" y="4340880"/>
            <a:ext cx="1198800" cy="459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alu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363040" y="4340880"/>
            <a:ext cx="1471680" cy="459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200+30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013040" y="3731400"/>
            <a:ext cx="807120" cy="459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011240" y="3121560"/>
            <a:ext cx="1198800" cy="459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alar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Stack Trace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912600" y="1905120"/>
            <a:ext cx="81104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7390800" y="182700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gr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9829800" y="373392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391520" y="2590920"/>
            <a:ext cx="609480" cy="5331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866560" y="2664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isplay(200+30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013400" y="4950360"/>
            <a:ext cx="858960" cy="459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372040" y="4950360"/>
            <a:ext cx="1063080" cy="459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pl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002600" y="4340880"/>
            <a:ext cx="1198800" cy="459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alu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363040" y="4340880"/>
            <a:ext cx="1471680" cy="459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200+30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013040" y="3731400"/>
            <a:ext cx="807120" cy="459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011240" y="3121560"/>
            <a:ext cx="1198800" cy="459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alar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Stack Trace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912600" y="1905120"/>
            <a:ext cx="81104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390800" y="182700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gr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9829800" y="373392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8077320" y="2590920"/>
            <a:ext cx="609480" cy="5331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866560" y="2664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isplay(200+30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013400" y="4950360"/>
            <a:ext cx="858960" cy="459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372040" y="4950360"/>
            <a:ext cx="1063080" cy="459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pl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002600" y="4340880"/>
            <a:ext cx="1198800" cy="459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alu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363040" y="4340880"/>
            <a:ext cx="1471680" cy="459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200+30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013040" y="3731400"/>
            <a:ext cx="807120" cy="459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011240" y="3121560"/>
            <a:ext cx="1198800" cy="459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alar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Stack Trace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912600" y="1905120"/>
            <a:ext cx="81104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"/>
          <p:cNvSpPr/>
          <p:nvPr/>
        </p:nvSpPr>
        <p:spPr>
          <a:xfrm>
            <a:off x="7390800" y="182700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gr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9829800" y="373392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391520" y="2590920"/>
            <a:ext cx="1295280" cy="5331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866560" y="2664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isplay(200+30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013400" y="4950360"/>
            <a:ext cx="858960" cy="459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72040" y="4950360"/>
            <a:ext cx="1063080" cy="459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pl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002600" y="4340880"/>
            <a:ext cx="1198800" cy="459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alu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363400" y="4340880"/>
            <a:ext cx="842040" cy="459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50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013040" y="3731400"/>
            <a:ext cx="807120" cy="459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Stack Trace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912600" y="1905120"/>
            <a:ext cx="81104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7390800" y="182700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gr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9829800" y="373392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391520" y="2590920"/>
            <a:ext cx="1295280" cy="5331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5866560" y="2664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isplay(200+30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013400" y="4950360"/>
            <a:ext cx="858960" cy="459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002600" y="4340880"/>
            <a:ext cx="1198800" cy="459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alu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363400" y="4950360"/>
            <a:ext cx="842040" cy="459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50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362320" y="4340880"/>
            <a:ext cx="1063080" cy="459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pl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Migration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rong Migr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t any moment an agent can migrate to another place without any special requirements towards the ag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agent doesn’t need to take special precautions when execut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agent doesn’t have to ‘cooperate’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de mobility becomes usefu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Stack Trace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912600" y="1905120"/>
            <a:ext cx="81104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7390800" y="182700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gr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9829800" y="373392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7391520" y="2590920"/>
            <a:ext cx="1295280" cy="5331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866560" y="2664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isplay(200+30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013400" y="4950360"/>
            <a:ext cx="858960" cy="459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363400" y="4950360"/>
            <a:ext cx="842040" cy="459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50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362320" y="4340880"/>
            <a:ext cx="1460880" cy="459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ive #8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Stack Trace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912600" y="1905120"/>
            <a:ext cx="81104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7390800" y="182700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gr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9829800" y="373392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5943600" y="2590920"/>
            <a:ext cx="2895480" cy="5331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866560" y="2664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isplay(200+30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363040" y="4950360"/>
            <a:ext cx="909360" cy="459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00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71200" y="920160"/>
            <a:ext cx="8163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Verdana"/>
              </a:rPr>
              <a:t>Migration of a process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quires migration of the process at the meta level 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quires decoupling between the meta-level-process and the base-level proces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ification of the runtime stac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PS transformation can be used to achieve thi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762120" y="607680"/>
            <a:ext cx="816264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3366"/>
                </a:solidFill>
                <a:latin typeface="Verdana"/>
              </a:rPr>
              <a:t>Cborg</a:t>
            </a:r>
            <a:endParaRPr b="0" lang="en-US" sz="6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77440" y="2057040"/>
            <a:ext cx="85662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ttp://progwww.vub.ac.be/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oolresearch/cbor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erner.van.belle@vub.ac.b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jdhondt@vub.ac.b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Migration Example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912600" y="2057400"/>
            <a:ext cx="8110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ac(n):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f(n\\1 = 0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gentmove(place(“tecra/ses1”))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gentmove(place(“void.tecra/ses1”))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f(n=1,1,n*Fac(n-1)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343080" y="1820880"/>
            <a:ext cx="1098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33520" y="1905120"/>
            <a:ext cx="7543800" cy="6094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1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. Stop the execution of an ag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11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. Gather its ‘state’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11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3. Remove the agent from mem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11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4. Send its entire ‘state’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11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5. Receive its entire stat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11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6. Create an agent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11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7. Restore its entire stat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11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8. Start running the ag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Strong Migration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533520" y="2514600"/>
            <a:ext cx="7543800" cy="6094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Strong Migration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1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. Stop the execution of an ag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11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. Gather its ‘state’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11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3. Remove the agent from mem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11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4. Send its entire ‘state’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11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5. Receive its entire stat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11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6. Create an agent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11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7. Restore its entire stat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11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8. Start running the ag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533520" y="3048120"/>
            <a:ext cx="7543800" cy="6094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Strong Migration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1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. Stop the execution of an ag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11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. Gather its ‘state’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11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3. Remove the agent from mem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11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4. Send its entire ‘state’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11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5. Receive its entire stat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11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6. Create an agent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11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7. Restore its entire stat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11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8. Start running the ag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533520" y="3581280"/>
            <a:ext cx="7543800" cy="60984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Strong Migration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1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. Stop the execution of an ag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11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. Gather its ‘state’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11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3. Remove the agent from mem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11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4. Send its entire ‘state’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11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5. Receive its entire stat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11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6. Create an agent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11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7. Restore its entire stat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11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8. Start running the ag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533520" y="4114800"/>
            <a:ext cx="7543800" cy="6094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Strong Migration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1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. Stop the execution of an ag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11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. Gather its ‘state’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11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3. Remove the agent from mem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11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4. Send its entire ‘state’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11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5. Receive its entire stat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11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6. Create an agent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11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7. Restore its entire stat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11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8. Start running the ag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10T13:12:40Z</dcterms:created>
  <dc:creator>Werner Van Belle</dc:creator>
  <dc:description/>
  <dc:language>en-US</dc:language>
  <cp:lastModifiedBy>Werner Van Belle</cp:lastModifiedBy>
  <dcterms:modified xsi:type="dcterms:W3CDTF">2000-06-13T05:17:05Z</dcterms:modified>
  <cp:revision>32</cp:revision>
  <dc:subject/>
  <dc:title> Location Transparent Routing in Mobile Agent Systems </dc:title>
</cp:coreProperties>
</file>